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507-EF24-4A15-B198-061831F4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AB65-A893-4E76-BDEA-DFBF8645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084-8D65-4549-8160-D15FD842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015-DA54-4263-ADAD-ECFFC0E9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6E4-7373-4D5D-9F1D-7E7C6B7A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F7A3-EC22-481E-BA9B-8F09DC2B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B11-7117-484E-A009-C0C858FE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D53-0A93-4D62-8049-89C4C237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824-AFBE-48BC-BDAE-46D9B6DD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ADB1-EBD5-401C-AE9A-6BBE3948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C27-F9C6-4962-802E-EA7590BB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0C5-D527-44AF-BF69-E4E482C6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B4CD-49CB-4331-BE15-80F01AB02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6.xml"/><Relationship Id="rId9" Type="http://schemas.openxmlformats.org/officeDocument/2006/relationships/slide" Target="slide28.xml"/><Relationship Id="rId10" Type="http://schemas.openxmlformats.org/officeDocument/2006/relationships/slide" Target="slide30.xml"/><Relationship Id="rId11" Type="http://schemas.openxmlformats.org/officeDocument/2006/relationships/slide" Target="slide32.xml"/><Relationship Id="rId12" Type="http://schemas.openxmlformats.org/officeDocument/2006/relationships/slide" Target="slide34.xml"/><Relationship Id="rId13" Type="http://schemas.openxmlformats.org/officeDocument/2006/relationships/slide" Target="slide36.xml"/><Relationship Id="rId14" Type="http://schemas.openxmlformats.org/officeDocument/2006/relationships/slide" Target="slide38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8.xml"/><Relationship Id="rId18" Type="http://schemas.openxmlformats.org/officeDocument/2006/relationships/slide" Target="slide2.xml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5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6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8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9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0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1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4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7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8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ater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e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hydrosp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ll the water on eart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, melted snow, or water that soaks into the grou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ground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ayer of rock and soil that groundwater moves through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quif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top level of groundwater in an aquif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ater t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764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mount of fresh water in glaciers and i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7% or 7/10th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oceans cover about what percent of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ext step after water is pumped to a treatment pl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dd chemicals that adhere to pollutants causing them to float down to the bottom of holding tank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599840" y="47242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ater vap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water in the form of a gas in the ai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changing of liquid water  into water vapor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vapor turning into liquid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ater that falls from clouds as snow, rain, sleet or hail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cipi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75%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final step of the water cycle call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unoff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8576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keeps the water cycle going, were does it get it’s energ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from the su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ozen raindrops falling from clouds are call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le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76040" cy="73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n on summer days, clouds are made of thes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ice crysta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ir moves upward to areas of less air pressure, what for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clou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carries warm water to the pol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formed when strong winds blow raindrops through clouds many ti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ai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process is slower; evaporation or sublim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blim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two ways water is treated in most treatment plant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dding chemicals to make pollutants fall; and processing water through filt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two chemicals added before water gets to your house; what do they 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hlorine to kill bacteria; and fluoride to help your tee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07640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are sublimation and evaporation both alik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y both form water vapor; evaporation turns liquid water into water vapor and sublimation turns ice directly into water vapo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905120" y="502884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curren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water vapor freezing on a surface before it becomes a liquid wa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fro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is heavier: cold water with high salinity or warm water with low salin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cold water with high salin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fresh surface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rivers, streams, and lak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udsd</cp:lastModifiedBy>
  <dcterms:modified xsi:type="dcterms:W3CDTF">2012-02-29T18:00:05Z</dcterms:modified>
  <cp:revision>55</cp:revision>
  <dc:subject/>
  <dc:title>No Slide Title</dc:title>
</cp:coreProperties>
</file>